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90F7-3AAC-415B-9C56-EA0DD23977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1754-B3B5-43BD-99C5-0559A1F095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B2CE-A6B1-4AF3-98D4-DE0CCA0C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AA36-B20C-412A-9491-F2563C46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E67A-BD9D-402E-844D-E16E7F53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1673-5B48-4ADE-B50E-B4C6166D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96AE-F187-41DC-9151-441B61AAF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8E72-3298-4FF5-A776-D2EF265D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57E7-A805-4100-BCBA-A3ACE313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3457-9D61-4E65-B34B-539289DD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0F5A-7C36-4BB9-BC9C-9C33B3E9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CFBC-E03B-453D-B810-A2982E51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091B-FA76-4B3F-8D67-7D965E0C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B06E-A583-44B7-9411-6F97DF94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0737-5D4E-4498-91FB-878CBC6D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E1F9-A781-4EDD-8B09-8C980D71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82F5-036F-4769-8EE6-964A6559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80D0-8D5C-4DE7-904B-53C23D6A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7AE0-C94A-40E2-9017-95CB17F4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B90E-DCC6-455A-92B8-7517E255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439F-89BA-4E0C-9FD1-D3699E7A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FCED-8466-4138-8FBB-1DC95732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6DA5-72C5-4F6B-8490-A0923167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DD2A-1E4C-4332-AD80-A2A741F2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4029-33F4-49D6-9A33-EBB489D5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C58D-2E79-4807-BF9E-E82291E9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58CD-9CFC-4880-9206-CC5532DAB0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FA83-A635-488A-9CD1-E8B54ED4E7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0" descr=""/>
          <p:cNvPicPr/>
          <p:nvPr/>
        </p:nvPicPr>
        <p:blipFill>
          <a:blip r:embed="rId1"/>
          <a:srcRect l="0" t="0" r="0" b="49700"/>
          <a:stretch/>
        </p:blipFill>
        <p:spPr>
          <a:xfrm>
            <a:off x="6429240" y="5403960"/>
            <a:ext cx="2714760" cy="14540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71880" y="213840"/>
            <a:ext cx="29908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Byw ym mhle?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57120" y="1785960"/>
            <a:ext cx="8207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Mae’r teulu Llwyd yn byw yn y fflat canol ar y llawr uchaf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357120" y="2571840"/>
            <a:ext cx="864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030a0"/>
                </a:solidFill>
                <a:latin typeface="Comic Sans MS"/>
              </a:rPr>
              <a:t>Mae’r Morganiaid yn byw union uwchben y teulu Jon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57120" y="3071880"/>
            <a:ext cx="82072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b050"/>
                </a:solidFill>
                <a:latin typeface="Comic Sans MS"/>
              </a:rPr>
              <a:t>Os yw’r teulu Williams yn byw ar y llawr uchaf, maent yn byw drws nesaf i’r Morgania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28760" y="5572080"/>
            <a:ext cx="6781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a deulu sy’n byw ym mhob ffl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357120" y="4857840"/>
            <a:ext cx="7572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Mae’r teulu Roberts yn byw ar y llawr uchaf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57120" y="3929040"/>
            <a:ext cx="8207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omic Sans MS"/>
              </a:rPr>
              <a:t>Mae’r teulu Davies yn byw i’r chwith o’r teulu Williams, unai ar y llawr top neu gwaelo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2" descr=""/>
          <p:cNvPicPr/>
          <p:nvPr/>
        </p:nvPicPr>
        <p:blipFill>
          <a:blip r:embed="rId2"/>
          <a:stretch/>
        </p:blipFill>
        <p:spPr>
          <a:xfrm>
            <a:off x="142920" y="214200"/>
            <a:ext cx="900000" cy="10144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57120" y="928440"/>
            <a:ext cx="832032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wn bloc o fflatiau, mae dau lawr gyda tri fflat ar bob llaw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3" descr=""/>
          <p:cNvPicPr/>
          <p:nvPr/>
        </p:nvPicPr>
        <p:blipFill>
          <a:blip r:embed="rId3"/>
          <a:stretch/>
        </p:blipFill>
        <p:spPr>
          <a:xfrm>
            <a:off x="7858080" y="4000680"/>
            <a:ext cx="100980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1T18:16:36Z</dcterms:created>
  <dc:creator>Carwyn</dc:creator>
  <dc:description/>
  <dc:language>en-US</dc:language>
  <cp:lastModifiedBy>Carwyn</cp:lastModifiedBy>
  <dcterms:modified xsi:type="dcterms:W3CDTF">2009-11-29T13:10:50Z</dcterms:modified>
  <cp:revision>9</cp:revision>
  <dc:subject/>
  <dc:title>Y tri olaf</dc:title>
</cp:coreProperties>
</file>